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E44-6FDB-47F9-81AD-DB3370CD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BCD-7E26-465D-B523-14C65487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7B9-191B-467E-85AF-C37B5ACF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938-96C9-4A2B-BB36-D652D6B0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F0B3-CD63-4368-8886-E4A0BC29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2322-3D22-47CF-8841-C9708B10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644F-0C29-4C1C-A424-2E73235E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7D64-F46D-4A7B-B826-180CF632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CD4E-2655-4228-A2A5-1BD6E328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318A-279E-4E47-A03B-E238D06F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67CF-9905-4A59-88B2-ED3743D0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D95-8BFB-4060-AA66-30AD30AA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8808-C17C-4881-BF2A-A44185CD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542A-4CA7-4864-B3FE-781B2E62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FE7F-3688-4B08-AD1C-D8815C28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994C-9603-486B-ACB5-4DA243C8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991C-989F-4686-8D4C-7B586703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79E-E5C5-44F9-B566-126F139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DEF-E5E5-427F-A0E6-57423CEC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0FF-0BF7-4189-BB7B-7BD913B0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178-3541-48FD-8899-CED5A6E4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5E2-1AFA-4532-838F-1A9217B9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AAE-5AB0-45E7-9246-620F0076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2C7-8D73-4072-B14B-61F1CF1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DA23-EB9F-4F15-AA6A-C8C34D3537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Z:\newtek\_backgrounds_1.02\Tim\powerpoint templates\41-60\worldwide_marketplace\elements\worldwide_marketplace_map.gif"/>
          <p:cNvPicPr/>
          <p:nvPr/>
        </p:nvPicPr>
        <p:blipFill>
          <a:blip r:embed="rId3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53F6-0EB7-4F44-B0F0-0F82CA7D1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390600" y="1127160"/>
            <a:ext cx="821700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административно-территориального деления в России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320" y="1341000"/>
            <a:ext cx="8888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лишком большое количество субъектов Федерации, их разноуровневый статус и большие диспропорции в численности населения и площад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путанная система национально-территориальных образований, лишь весьма отдалённо соответствующая расселению народов Росси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гнорирование ряда реальных экономических, транспортных и культурных центров, к которым тяготеют значительные по площади и населению территории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еудобное положение границ между субъектами Федерации, когда территория, тяготеющая к одному субъекту, приписана к другому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елогичность системы городских округов (ГО)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отсутствие единообразия в системе районного деления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нелогичность системы местного самоуправления — она вводится только в сельской местности.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259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: 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85 субъектов федерации.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областей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республика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раёв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орода федерального значения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втономная область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автономных округа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files.school-collection.edu.ru/dlrstore/00000c51-1000-4ddd-517d-3600483aebf5/objects/07-1-2/vidy-rajonir-2.jpg"/>
          <p:cNvPicPr/>
          <p:nvPr/>
        </p:nvPicPr>
        <p:blipFill>
          <a:blip r:embed="rId1"/>
          <a:stretch/>
        </p:blipFill>
        <p:spPr>
          <a:xfrm>
            <a:off x="100080" y="549360"/>
            <a:ext cx="90201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45"/>
          <a:stretch/>
        </p:blipFill>
        <p:spPr>
          <a:xfrm>
            <a:off x="0" y="271440"/>
            <a:ext cx="914400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Однородн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83628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диницы административно-территориального деления, по которым собираются и публикуются усредненные статистические данные.</a:t>
            </a:r>
            <a:endParaRPr b="1" lang="en-US" sz="28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9" name="Схема 3" descr=""/>
          <p:cNvPicPr/>
          <p:nvPr/>
        </p:nvPicPr>
        <p:blipFill>
          <a:blip r:embed="rId1"/>
          <a:stretch/>
        </p:blipFill>
        <p:spPr>
          <a:xfrm>
            <a:off x="-73080" y="2487600"/>
            <a:ext cx="930276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Узлов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960" y="685440"/>
            <a:ext cx="831204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 выделение районов в зависимости  от интенсивности хозяйственной деятельности внутри них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0" r="44" b="-18"/>
          <a:stretch/>
        </p:blipFill>
        <p:spPr>
          <a:xfrm>
            <a:off x="2948040" y="2133720"/>
            <a:ext cx="6195960" cy="38462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08000" y="1989000"/>
            <a:ext cx="316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ыявляет сферы влияния городов, транспортных узлов, предприятий. Каждый узловой район имеет ядро, где отчетливо проявляются все показатели и явления. Интенсивность явления падает от ядра к периферии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Принципы районирования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32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йонов должна распространятся на  объекты одинаковой природы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ирование должно служить конкретной цели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58840" y="981000"/>
          <a:ext cx="8712000" cy="5307120"/>
        </p:xfrm>
        <a:graphic>
          <a:graphicData uri="http://schemas.openxmlformats.org/drawingml/2006/table">
            <a:tbl>
              <a:tblPr/>
              <a:tblGrid>
                <a:gridCol w="453960"/>
                <a:gridCol w="2349360"/>
                <a:gridCol w="5908680"/>
              </a:tblGrid>
              <a:tr h="39780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итуции 1993 г.: 89 (49 областей, 6 краев, 21 республика, 10 автономных округов, 1 автономная область, 2 города федерального подчинения — Москва, Санкт-Петербур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6 штатов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тивные  Штаты Микронез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шт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(28 штатов и 7 союз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3 штатов и 2 федеральных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ьян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7 штатов и 7 административ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эмира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иста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4 провинции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79280" y="1197000"/>
          <a:ext cx="8713800" cy="4280040"/>
        </p:xfrm>
        <a:graphic>
          <a:graphicData uri="http://schemas.openxmlformats.org/drawingml/2006/table">
            <a:tbl>
              <a:tblPr/>
              <a:tblGrid>
                <a:gridCol w="453960"/>
                <a:gridCol w="2349720"/>
                <a:gridCol w="5910120"/>
              </a:tblGrid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ер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ен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23 провинции, 1 федеральный округ — Буэнос-Айрес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(26 штатов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80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(23 штата, 1 федеральный округ, 1 территория федерального подчинения, состоящая из 72 острово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0 провинций и 3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с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(31 штат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(50 штатов и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оп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федеральных кантон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00" y="40464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о-территориальные единицы должны быть: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41300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крупными, чтобы местные административные службы не поглощали слишком много бюджетных средств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определенное внутреннее единство, чтобы отражать интересы своих жителей и участвовать в политической жизни страны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можности тесно следовать прежней сетке АТД для сохранения уже сложившихся общественных связей,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ые единицы должны создаваться с учетом развивающихся экономических центров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6:09:28Z</dcterms:created>
  <dc:creator>Пользователь Windows</dc:creator>
  <dc:description/>
  <dc:language>en-US</dc:language>
  <cp:lastModifiedBy>Admin</cp:lastModifiedBy>
  <dcterms:modified xsi:type="dcterms:W3CDTF">2020-05-12T22:04:44Z</dcterms:modified>
  <cp:revision>13</cp:revision>
  <dc:subject/>
  <dc:title>Районирование и административно-территориальное де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90000000000010243100207f6000400038000</vt:lpwstr>
  </property>
</Properties>
</file>